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9B57-5EB2-432A-AE59-D9A9FA37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3057-457D-4C57-804E-AC037F1C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C361-4F6D-43D1-AF80-66627FE9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15385-49CD-43D6-873C-8032EBE9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A79D-7A94-42A7-A89B-FC079BE2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FDA5-8B0A-45D1-86F1-0B2DE2C9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A451-A372-4B90-8967-D8CED1A7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CEE6-06BE-4B86-859B-B2634791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E134-6362-4B21-89F4-1837BD2F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E112-692E-4ADD-AA56-2E27D2A9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1FF1-D904-4BD6-BF0C-6CAADECE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198CE-234D-4858-A779-E1127AA9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7862-6AC6-4555-BB36-38625591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E6D0-C81C-4E50-A895-C34F7AC9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1C54-D6DA-4831-9DBE-53C1710F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3BB3-4A4B-452E-A99C-D3E90C26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BB57-A036-49D4-A14A-5C3CBDBE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B686B-1F1B-4522-A071-B40D384E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EC15-84D2-4C5D-849D-C976C62C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89A9-B162-4714-8B83-5768841F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B80E9-0F15-4504-A6B0-C1B850DA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A00EE-F874-4533-BCBE-FAAF4B39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D1575-BC36-4863-99EA-D2E05AA2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67870-2DC8-4EE0-875D-C3338CED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447C-1159-4065-8017-D214DC7FB0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5EFE-E5AE-420D-AD98-9409A3103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ffine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E3080-CF98-44E5-9CD9-AB63CD59D3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5T01:05:49Z</dcterms:modified>
  <cp:revision>46</cp:revision>
  <dc:subject/>
  <dc:title>CAP Cryptographic Analysis Program</dc:title>
</cp:coreProperties>
</file>